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452-1394-4300-8C76-9B4754F9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598-B5B0-4B68-98BB-88D5011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6A2-8FB6-4018-AB50-D6C7EF76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F00-7A46-4B0C-9B20-AD5A0998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E14C-2DEA-40B0-BA8B-ED03C05A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168D-014B-4E3D-8CD1-23FE8509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C83D-D298-45D5-A3AA-703E370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F93-536C-47C6-89CC-2696E467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FB55-A3A4-47FE-AAB8-CF1804B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6426-73FC-4E4A-847C-54A9871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0FC9-8F8E-4676-B47F-2E8BAC0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6C1-7A67-457F-ABE7-5057179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6A02-90DC-4EEB-B695-3CDED82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F5D6-3186-40C3-AFE1-BDC3A70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E0B-2E19-4397-81EE-A752D2F8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A5E6-4AD5-4BD9-867F-BAA751D3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66F-571F-40C7-8CC5-11D46472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436-C7D7-41B0-A7D5-7A74326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6E1-A922-478A-A2A4-2E4E533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765-7DDC-44BF-837F-8AA45B8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305-B776-43B2-A4BA-8656F63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90F-0A29-498A-A570-9E7E74D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66E-9626-478D-8605-B3EF6E7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57B-A0D3-4A96-9766-E27A1C8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D25-01F3-48A4-BE2C-BF9952491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CBC-1B4D-41F9-8B3B-FF638E295A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20000"/>
                </a:solidFill>
                <a:uFillTx/>
                <a:latin typeface="Arial"/>
              </a:rPr>
              <a:t>Chrysler Building</a:t>
            </a:r>
            <a:endParaRPr b="0" lang="en-US" sz="5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5333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5 Lexington A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 City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3520" y="37339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De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is Hadjiagap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Ph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ley 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tructural Stability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backs at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anks of 8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osta st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862 wind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000 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,000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pic>
        <p:nvPicPr>
          <p:cNvPr id="144" name="Picture 3" descr="skyscraper-diagra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Lateral Load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657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s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ff inner c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act as shear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d with steel tru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onal beams add addi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structure"/>
          <p:cNvPicPr/>
          <p:nvPr/>
        </p:nvPicPr>
        <p:blipFill>
          <a:blip r:embed="rId1"/>
          <a:stretch/>
        </p:blipFill>
        <p:spPr>
          <a:xfrm>
            <a:off x="4114800" y="2209680"/>
            <a:ext cx="46004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Basic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ed by                  Fred T. Ley &amp;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uilding to surpass 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961 tons of structural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1,881 riv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826,000 b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onstruction Time Line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33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began 9/19/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: steel, br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floors built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5 ft spire built in the elevator s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completed 5/28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26creator1_lg"/>
          <p:cNvPicPr/>
          <p:nvPr/>
        </p:nvPicPr>
        <p:blipFill>
          <a:blip r:embed="rId1"/>
          <a:stretch/>
        </p:blipFill>
        <p:spPr>
          <a:xfrm>
            <a:off x="4267080" y="1981080"/>
            <a:ext cx="4667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afety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000 construction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safety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fat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for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new ph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Since Then: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lighting scheme installed in 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ovated in 1978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ation complete in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est standing brick building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chrysler-building"/>
          <p:cNvPicPr/>
          <p:nvPr/>
        </p:nvPicPr>
        <p:blipFill>
          <a:blip r:embed="rId1"/>
          <a:srcRect l="0" t="0" r="32532" b="0"/>
          <a:stretch/>
        </p:blipFill>
        <p:spPr>
          <a:xfrm>
            <a:off x="4876920" y="1905120"/>
            <a:ext cx="36957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0000"/>
                </a:solidFill>
                <a:latin typeface="Arial"/>
              </a:rPr>
              <a:t>Mechanical, Electrical, and Plumbing Systems</a:t>
            </a:r>
            <a:endParaRPr b="0" lang="en-US" sz="3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Full-length Ele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miles of pi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0 miles of electrical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Elevator System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pic>
        <p:nvPicPr>
          <p:cNvPr id="161" name="Content Placeholder 3" descr="texaco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53040" cy="4865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3520" y="1905120"/>
            <a:ext cx="4419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Otis Elevator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est elevator system in the world at time of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capable of rates up to 1200 ft/min, (20ft/sec) deemed unsafe speed by city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Temperature Control System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82880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with Carrier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first buildings to include air conditio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d Weather” system revolutionary for it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4" descr="haircut.jpg"/>
          <p:cNvPicPr/>
          <p:nvPr/>
        </p:nvPicPr>
        <p:blipFill>
          <a:blip r:embed="rId1"/>
          <a:stretch/>
        </p:blipFill>
        <p:spPr>
          <a:xfrm>
            <a:off x="5562720" y="1828800"/>
            <a:ext cx="2895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William H. Reynolds &amp; architect William Van Alen, in 19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s Tallest Building     (‘30-‘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ynolds sold lease and design plans to Walter P. Chrys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d competition from the Bank of Manhattan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3098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Arial"/>
              </a:rPr>
              <a:t>Television and Radio Broadcasting</a:t>
            </a:r>
            <a:endParaRPr b="0" lang="en-US" sz="38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46483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most floors too slanted to be useful for offices; used to house mechanical and broadcast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r broadcasting home of WCBS-TV and several radio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ontent Placeholder 4" descr="chrysler.jpg"/>
          <p:cNvPicPr/>
          <p:nvPr/>
        </p:nvPicPr>
        <p:blipFill>
          <a:blip r:embed="rId1"/>
          <a:stretch/>
        </p:blipFill>
        <p:spPr>
          <a:xfrm>
            <a:off x="5245200" y="1828800"/>
            <a:ext cx="2844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Development 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87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signed to be 808 ft tall, revised to 92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f Manhattan Tower designed and built to a height of 927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Alen constructed the 185 ft sp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: $15 million                     ($17 billio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7"/>
          <a:stretch/>
        </p:blipFill>
        <p:spPr>
          <a:xfrm>
            <a:off x="5715000" y="1905120"/>
            <a:ext cx="3062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Owner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er P. Chrysler, Chairman of the Chrysle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 Goldman and Alex Di Lor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. Mutual Life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Kent Cooke, a Washington D.C.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hman Speyer Properties (25%) and TMW Real Estate Group (7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1892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Current Use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46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s occupied by variou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ortment of retail stores/amenities are located throughout th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bby is open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deck (clo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 Club (closed in 19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43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Architecture 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: Art Deco (Exposition Internationale des Arts Décoratifs et Industriels Moder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: White brick and metal faç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osta D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 of Industrial and Chrysle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225571"/>
          <p:cNvPicPr/>
          <p:nvPr/>
        </p:nvPicPr>
        <p:blipFill>
          <a:blip r:embed="rId1"/>
          <a:stretch/>
        </p:blipFill>
        <p:spPr>
          <a:xfrm>
            <a:off x="5943600" y="685800"/>
            <a:ext cx="27986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23485261"/>
          <p:cNvPicPr/>
          <p:nvPr/>
        </p:nvPicPr>
        <p:blipFill>
          <a:blip r:embed="rId1"/>
          <a:stretch/>
        </p:blipFill>
        <p:spPr>
          <a:xfrm>
            <a:off x="5181480" y="1143000"/>
            <a:ext cx="3729240" cy="5486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Exterior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Granite Ent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 Ea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c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d Orn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hrysler-building-eagle"/>
          <p:cNvPicPr/>
          <p:nvPr/>
        </p:nvPicPr>
        <p:blipFill>
          <a:blip r:embed="rId2"/>
          <a:stretch/>
        </p:blipFill>
        <p:spPr>
          <a:xfrm>
            <a:off x="3962520" y="2816280"/>
            <a:ext cx="4952880" cy="375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hryswhe"/>
          <p:cNvPicPr/>
          <p:nvPr/>
        </p:nvPicPr>
        <p:blipFill>
          <a:blip r:embed="rId3"/>
          <a:stretch/>
        </p:blipFill>
        <p:spPr>
          <a:xfrm>
            <a:off x="4038480" y="2895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Interior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ant Lob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tiful Mu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 Reno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newyorkcity226"/>
          <p:cNvPicPr/>
          <p:nvPr/>
        </p:nvPicPr>
        <p:blipFill>
          <a:blip r:embed="rId1"/>
          <a:stretch/>
        </p:blipFill>
        <p:spPr>
          <a:xfrm>
            <a:off x="4038480" y="2876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newyorkcity224"/>
          <p:cNvPicPr/>
          <p:nvPr/>
        </p:nvPicPr>
        <p:blipFill>
          <a:blip r:embed="rId2"/>
          <a:stretch/>
        </p:blipFill>
        <p:spPr>
          <a:xfrm>
            <a:off x="3886200" y="2895480"/>
            <a:ext cx="5029200" cy="362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newyorkcity232"/>
          <p:cNvPicPr/>
          <p:nvPr/>
        </p:nvPicPr>
        <p:blipFill>
          <a:blip r:embed="rId3"/>
          <a:stretch/>
        </p:blipFill>
        <p:spPr>
          <a:xfrm>
            <a:off x="3886200" y="2889360"/>
            <a:ext cx="5029200" cy="363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newyorkcity234"/>
          <p:cNvPicPr/>
          <p:nvPr/>
        </p:nvPicPr>
        <p:blipFill>
          <a:blip r:embed="rId4"/>
          <a:stretch/>
        </p:blipFill>
        <p:spPr>
          <a:xfrm>
            <a:off x="3809880" y="2975040"/>
            <a:ext cx="5105520" cy="355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mural"/>
          <p:cNvPicPr/>
          <p:nvPr/>
        </p:nvPicPr>
        <p:blipFill>
          <a:blip r:embed="rId5"/>
          <a:stretch/>
        </p:blipFill>
        <p:spPr>
          <a:xfrm>
            <a:off x="5176800" y="990720"/>
            <a:ext cx="3643200" cy="556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newyorkcity231"/>
          <p:cNvPicPr/>
          <p:nvPr/>
        </p:nvPicPr>
        <p:blipFill>
          <a:blip r:embed="rId6"/>
          <a:stretch/>
        </p:blipFill>
        <p:spPr>
          <a:xfrm>
            <a:off x="5334120" y="1523880"/>
            <a:ext cx="366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</a:rPr>
              <a:t>Former Amenities</a:t>
            </a:r>
            <a:endParaRPr b="0" lang="en-US" sz="44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ID021-07"/>
          <p:cNvPicPr/>
          <p:nvPr/>
        </p:nvPicPr>
        <p:blipFill>
          <a:blip r:embed="rId1"/>
          <a:stretch/>
        </p:blipFill>
        <p:spPr>
          <a:xfrm>
            <a:off x="5246640" y="2057400"/>
            <a:ext cx="3611520" cy="459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(JPEG)"/>
          <p:cNvPicPr/>
          <p:nvPr/>
        </p:nvPicPr>
        <p:blipFill>
          <a:blip r:embed="rId2"/>
          <a:stretch/>
        </p:blipFill>
        <p:spPr>
          <a:xfrm>
            <a:off x="228600" y="3505320"/>
            <a:ext cx="4648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23:11Z</dcterms:created>
  <dc:creator>Dylan Phelan </dc:creator>
  <dc:description/>
  <dc:language>en-US</dc:language>
  <cp:lastModifiedBy>Charles Kaczynski</cp:lastModifiedBy>
  <dcterms:modified xsi:type="dcterms:W3CDTF">2008-06-26T20:53:04Z</dcterms:modified>
  <cp:revision>9</cp:revision>
  <dc:subject/>
  <dc:title>ARCHITECTURE </dc:title>
</cp:coreProperties>
</file>